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335266"/>
        <c:axId val="20738763"/>
      </c:barChart>
      <c:catAx>
        <c:axId val="113352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738763"/>
        <c:crosses val="autoZero"/>
        <c:auto val="1"/>
        <c:lblAlgn val="ctr"/>
        <c:lblOffset val="100"/>
        <c:noMultiLvlLbl val="0"/>
      </c:catAx>
      <c:valAx>
        <c:axId val="207387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352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FC5A-1743-46EA-8C90-84C1A56BC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ADB5-C0B8-495F-88F8-1986D26F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3367-420D-43D5-A46A-764B2FD15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2F8E-C978-40AC-B2B4-28E446A29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6DD1-F010-40A0-86B5-4B204155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8C06-5565-4627-9F10-1B1326FE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05DB-1D96-49B6-AA80-33AD54D3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806F-709F-42C8-9E7B-68924DBD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D8FB-0482-4022-AB7B-F39A71F7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7DED-7A19-4E60-8A7D-336B0DA6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CD93-77F7-4FF8-B671-BD7BC291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7C1B-0675-4351-8661-0C6C9C57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39287-41FB-4899-A3BB-43A7CBAD81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