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281"/>
        <c:axId val="43083572"/>
      </c:barChart>
      <c:catAx>
        <c:axId val="9311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83572"/>
        <c:crosses val="autoZero"/>
        <c:auto val="1"/>
        <c:lblAlgn val="ctr"/>
        <c:lblOffset val="100"/>
        <c:noMultiLvlLbl val="0"/>
      </c:catAx>
      <c:valAx>
        <c:axId val="43083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F8F-9C59-4987-9843-76E4C3E2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FC2-854B-4822-B806-E9CC8CA7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7B5-5DA2-4839-9F94-699DAB13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878-9BFE-4517-A460-A3343906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705-B6C0-4E80-A443-F41075D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D10-442F-4429-8E15-DE3B10F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8CC-72E0-43F4-B9F3-7AECAAAF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4E2-0964-4F14-B767-E7591D01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0D1-84AB-4011-ACF0-CB54D868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A1B-421C-4142-A741-87980DA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812-12AE-4883-A2AA-C154673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72C-5771-4C70-B288-BB390C5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9C28E-A79C-47F1-87D0-3F0C8C554F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