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9490123"/>
        <c:axId val="68642803"/>
      </c:barChart>
      <c:catAx>
        <c:axId val="4949012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642803"/>
        <c:crosses val="autoZero"/>
        <c:auto val="1"/>
        <c:lblAlgn val="ctr"/>
        <c:lblOffset val="100"/>
        <c:noMultiLvlLbl val="0"/>
      </c:catAx>
      <c:valAx>
        <c:axId val="6864280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49012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24967-1FD2-4C5D-9C83-640127C77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71AFD-485B-4EA3-A4DC-15A82836F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A1711-0E88-490C-BBA3-B268B6D2C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F7AFF-1485-4679-BD74-D9672446E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77D8C-5B50-45CB-8C2A-4E7CFF5FF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B1DCB-1677-401D-8EFC-97A20CE05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92C30-7CDA-4276-8D0E-0F7A1EBA0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8B8DA-890E-481C-BB5C-42A58C54D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117DF-F715-4A94-87A7-1F54C6933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3F42F-833B-45C4-80B8-1A358C7CB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B82BC-02E3-477B-A099-ED4097689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C8466-0E7C-4E75-A7D3-50FCDEEA2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976696-8771-4920-AA0D-3C3E2FA2861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