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0841"/>
        <c:axId val="22410581"/>
      </c:barChart>
      <c:catAx>
        <c:axId val="88470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0581"/>
        <c:crosses val="autoZero"/>
        <c:auto val="1"/>
        <c:lblAlgn val="ctr"/>
        <c:lblOffset val="100"/>
        <c:noMultiLvlLbl val="0"/>
      </c:catAx>
      <c:valAx>
        <c:axId val="22410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0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D44-6E7D-43A9-8692-5FC058EA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5B8-41F3-492E-9746-5FF8144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40A-B951-40D5-B306-D0C3499B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9C0-2428-4DDB-8B43-ABAE35D9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EC1-9B84-449F-A4B3-F779748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B22-EBF4-4FEA-8316-8CA4984D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0D3-E7CD-42DE-BEC9-5F44BB2F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2FE-5960-4876-81A9-F4C43ADF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F83-4278-4118-B950-2940980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CD5-7941-46D7-A352-026E11B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A3A-0785-4C04-8EE3-03CCA2A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BAD-1291-4B9E-B0E4-8B570DF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C55F5-0DE5-4002-BBB2-49F1FDE970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