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74763"/>
        <c:axId val="7321978"/>
      </c:barChart>
      <c:catAx>
        <c:axId val="98374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978"/>
        <c:crosses val="autoZero"/>
        <c:auto val="1"/>
        <c:lblAlgn val="ctr"/>
        <c:lblOffset val="100"/>
        <c:noMultiLvlLbl val="0"/>
      </c:catAx>
      <c:valAx>
        <c:axId val="7321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4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E27-0438-45F7-BFE6-D74C3A3E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530-A1B5-4E92-BA65-1AFF69E3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BA0-A4A9-45D2-8D99-5F4593B5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208-839C-4F83-8E74-24C88AE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C73-2495-4517-AD8F-09C54F7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1D7-9074-4DC0-82A4-96CB52AA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8FF-E9FB-4F0F-A582-B6C6901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8E9-7C5E-460F-914A-C5588CA6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346-2EA3-49E8-9546-7CA2246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4B4-67EC-42C9-8B9B-4DA181A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763-D18B-4D57-BA98-9A17BB2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937-4C4D-4DD3-B2F9-10EB657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572CF-74F4-4923-9C48-DC684DEDF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