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5949"/>
        <c:axId val="77281676"/>
      </c:barChart>
      <c:catAx>
        <c:axId val="6005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81676"/>
        <c:crosses val="autoZero"/>
        <c:auto val="1"/>
        <c:lblAlgn val="ctr"/>
        <c:lblOffset val="100"/>
        <c:noMultiLvlLbl val="0"/>
      </c:catAx>
      <c:valAx>
        <c:axId val="77281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5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FEA-1610-4083-826F-E0A7885F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815-6D49-4B23-8DA9-3A186A44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75C-0127-400F-8EAB-AD266748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B87-9471-4166-82C6-BB267889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C3CA-8384-4793-9D98-C5AD5700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2A2-F4DB-423D-85EA-21B30DA5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952-4BC1-4AD0-B78C-E7873A09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1F3-32AF-49AE-AD41-E6337CC4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334-7136-4748-B6FD-2987BBD5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EF7-3329-497B-B36E-C897E329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969-63A6-4111-945F-356137C3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21A-004B-410F-82EE-B718A3B8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33EC5-A3D6-46A3-98A0-A0AD9F4430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