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970729"/>
        <c:axId val="9864106"/>
      </c:barChart>
      <c:catAx>
        <c:axId val="329707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4106"/>
        <c:crosses val="autoZero"/>
        <c:auto val="1"/>
        <c:lblAlgn val="ctr"/>
        <c:lblOffset val="100"/>
        <c:noMultiLvlLbl val="0"/>
      </c:catAx>
      <c:valAx>
        <c:axId val="98641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9707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1D36-8643-474E-B233-59586354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289D-FA11-4A37-85DB-71576BC9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1BC-F58D-475D-A69E-29F405F3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716-E930-4603-917C-D1132F95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A37-9768-47E5-85AA-64B6CB2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BDF-9D5A-4A4B-A5E8-4B002775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E93-8F46-4B4F-8B1D-DD3518C4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9C52-B6F0-4D22-BB77-F2CB77A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C91-9DB8-4F50-BCCC-972A6D39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407-C91D-4B06-9EB8-47AEBE0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DF2-A57A-4E2A-BC62-B8BFF4C3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BE20-BF74-452E-9368-0A80EFDD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AEEA8-0CC3-411E-AEF3-1E50563416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