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11789"/>
        <c:axId val="70551902"/>
      </c:barChart>
      <c:catAx>
        <c:axId val="25111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51902"/>
        <c:crosses val="autoZero"/>
        <c:auto val="1"/>
        <c:lblAlgn val="ctr"/>
        <c:lblOffset val="100"/>
        <c:noMultiLvlLbl val="0"/>
      </c:catAx>
      <c:valAx>
        <c:axId val="70551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11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4F9-F3AA-4DC2-946A-194A3DF6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E25-006F-4329-9A51-7757EBEB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1B5-9E48-4D58-BA01-154AF712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071-CCDF-4384-93DB-23AEBEE9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D94B-5A9C-4C2E-BD40-3A239C56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07C-C3E6-4B34-9F24-966A1F9B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F30-9D9D-4F03-A866-A8B2E369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2FD-2334-49AB-B333-69688F2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ADA5-2E64-4A3C-BB8E-E250D586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6FA-8C47-4BFA-8E18-33B07EEF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AEB-5A13-4845-ADDB-77B1AB50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D599-6813-4BAB-90ED-C18CD069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8F8C2-3D07-472E-921E-ECEC95D535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