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07733"/>
        <c:axId val="37810252"/>
      </c:barChart>
      <c:catAx>
        <c:axId val="34407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10252"/>
        <c:crosses val="autoZero"/>
        <c:auto val="1"/>
        <c:lblAlgn val="ctr"/>
        <c:lblOffset val="100"/>
        <c:noMultiLvlLbl val="0"/>
      </c:catAx>
      <c:valAx>
        <c:axId val="37810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07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DE3-62DF-43A7-AA50-4536536F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F32-58B3-478C-B929-27A16B4B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487-385B-4CBF-93FC-E610F211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7E8-B31D-4690-98C8-B6ED57DC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D66-FCCE-445D-99AE-0D80E265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EDC-045A-4D73-890D-2143077F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E91-897F-4BA0-8FB8-64A5C9BC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9BAD-61DF-44E4-8B55-1D0B0401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6B3-05EE-43E2-86BB-6F542700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D3B-7CE5-4C36-BC72-AAE4017A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D4B-9798-4F5A-AC8D-A756DCF6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914-2CB6-4038-92F7-460DEC6B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C1CFA-9EB8-447E-9D28-60B53D000C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