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57133"/>
        <c:axId val="22095981"/>
      </c:barChart>
      <c:catAx>
        <c:axId val="92757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95981"/>
        <c:crosses val="autoZero"/>
        <c:auto val="1"/>
        <c:lblAlgn val="ctr"/>
        <c:lblOffset val="100"/>
        <c:noMultiLvlLbl val="0"/>
      </c:catAx>
      <c:valAx>
        <c:axId val="22095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57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828-4669-4B86-BA69-9F0A6017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FC6A-AFCB-4E8D-987F-5802AE50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CCC-9F46-4590-9097-FF97D06B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72BE-1424-4472-93E1-83BB1302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C242-2C9B-4B60-9028-401CCB6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1AB7-308B-4C2E-818B-D3B1AE60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327-C466-41E2-B2F4-74EA4F3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58A7-9257-4477-AA8B-319318F0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CD0-233E-4F20-9FF8-CAB114A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F45-B503-4B2E-818F-3039EADA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BA4-3105-4278-911C-7C1FFC94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BED-D3B4-420F-BD49-9812A42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044FD-27DD-45C9-8BE7-BFDAC512D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