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683251"/>
        <c:axId val="57949107"/>
      </c:barChart>
      <c:catAx>
        <c:axId val="126832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949107"/>
        <c:crosses val="autoZero"/>
        <c:auto val="1"/>
        <c:lblAlgn val="ctr"/>
        <c:lblOffset val="100"/>
        <c:noMultiLvlLbl val="0"/>
      </c:catAx>
      <c:valAx>
        <c:axId val="579491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6832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AD0C-0561-472A-9B95-366DEFD7E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DE0D-C55E-410C-A957-1BFCF829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DFA7-5E43-46D7-A65A-589E82B7E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86C0-3164-4F3A-A7ED-01F5F771E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1149-54FD-4C68-A1BC-3B379C16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572D-AAF5-4050-923B-621EB6BC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A83B-395E-475C-ABF9-3765C6BF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6928-FB6E-49F2-A5A5-0A39682B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2B23-1A46-437A-8167-73DB341E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DD49-A472-45B6-881C-80D5A6B2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E1E4-D235-4AD8-BA14-4002CC76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CBD1-6FC4-4349-B074-C9F33F50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F2D700-B4CD-4CFE-B182-C8C5CBB3EE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