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16079"/>
        <c:axId val="50720357"/>
      </c:barChart>
      <c:catAx>
        <c:axId val="46616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20357"/>
        <c:crosses val="autoZero"/>
        <c:auto val="1"/>
        <c:lblAlgn val="ctr"/>
        <c:lblOffset val="100"/>
        <c:noMultiLvlLbl val="0"/>
      </c:catAx>
      <c:valAx>
        <c:axId val="50720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16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C9B-718B-4C6B-8FA7-E9F663F8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97E-9D34-4C0F-B7CE-47DCEE31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7DA-F8CE-4E5C-8168-10FF901D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488-B0E6-4B17-97F1-C6855FEC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E43-573C-4A46-AFD6-A2875B04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235F-657D-4CAE-B001-F56D90DF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59FC-3158-4571-B2C5-0B68B3E5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C91-0DF4-42A6-97F0-860FFFD0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408F-055A-450A-B310-B29AEEA9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84E-5383-4AA9-BF04-2BE23893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B49A-BFD5-4E04-BF55-6B382692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4873-2282-4619-8A34-DECFB4EF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B8B04-CECA-41D2-848C-63C3205CCA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